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117-AAB3-47DE-B53F-EA1E6445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AE0-5F8D-4FDD-A2A1-FD8A76A2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6A1-A13C-4351-A53E-4F4395AE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123-9BFA-4A5C-8F28-43C870FB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BE4D-0436-4A6A-949F-969F9750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FD8D-B141-410E-B8F7-8FA14D67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4BA6-4825-4BB4-8058-7087B044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8930-0D00-48C3-93FE-B33FF057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22DB-261F-46D4-A69A-BBB4A21B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3929-5315-4DF7-AC5C-3F6F22A9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5775-F6F7-4B9C-AC4B-47B54D2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7EB-CDD4-47BB-87AE-30CEF245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949A-BC7C-4765-993F-2C837E73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2E28-F09E-4979-ADB6-92D65645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FC58-7049-4E84-90F8-9F2AD9C2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3B2E-1F2B-4DF5-99CB-D34B7186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471E-3952-4926-80F3-F374D32B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B19-A9E9-41A4-AC0C-E0DFCC8E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C22-9A11-46C5-B679-885BCDA3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627-EBEA-422A-9F7B-7C9C2D5E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40C-52E3-4032-A6F9-C5C615AD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B6C-939A-47B3-9C44-C321F1B3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5AE-19A9-44CA-BFC7-925C0B8A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C0D-2184-409C-A083-476FF6BB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E296-C008-46B5-82A9-AE33C01559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B357-C3F7-46FA-8740-D5FBA06B62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Физические методы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           анализ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остоинства физических методов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cc00"/>
                </a:solidFill>
                <a:latin typeface="Arial"/>
              </a:rPr>
              <a:t>простота</a:t>
            </a:r>
            <a:r>
              <a:rPr b="0" lang="ru-RU" sz="21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боподготовки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 большинстве случае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 и качественного анализа проб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cc00"/>
                </a:solidFill>
                <a:latin typeface="Arial"/>
              </a:rPr>
              <a:t>большая универсальнос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о сравнению с химический и физических-химический методами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 т.ч. возможность анализа многокомпонентных смесе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cc00"/>
                </a:solidFill>
                <a:latin typeface="Arial"/>
              </a:rPr>
              <a:t>широкий динамичный диапазо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. е. возможность определения основных, примесных и следовых составляющих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асто </a:t>
            </a:r>
            <a:r>
              <a:rPr b="0" lang="ru-RU" sz="2100" spc="-1" strike="noStrike">
                <a:solidFill>
                  <a:srgbClr val="cccc00"/>
                </a:solidFill>
                <a:latin typeface="Arial"/>
              </a:rPr>
              <a:t>низкие пределы обнаруж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ак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концентраци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так и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по масс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что позволяет расходовать предельно малые количества пробы, а иногда проводить неразрушающий анализ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ногие физические методы анализа позволяют выполнять как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валов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ак и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локальны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000" spc="-1" strike="noStrike">
                <a:solidFill>
                  <a:srgbClr val="669999"/>
                </a:solidFill>
                <a:latin typeface="Arial"/>
              </a:rPr>
              <a:t>послойный анали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 пространственным разрешением вплоть до моноатомного уровн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ие методы анализа удобны для автомат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достижений физики в аналитической химии приводит </a:t>
            </a:r>
            <a:r>
              <a:rPr b="0" lang="ru-RU" sz="2600" spc="-1" strike="noStrike">
                <a:solidFill>
                  <a:srgbClr val="669900"/>
                </a:solidFill>
                <a:latin typeface="Arial"/>
              </a:rPr>
              <a:t>к созданию новых методов анализ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, в конце 80-х гг. появились </a:t>
            </a:r>
            <a:r>
              <a:rPr b="0" lang="ru-RU" sz="2600" spc="-1" strike="noStrike">
                <a:solidFill>
                  <a:srgbClr val="669999"/>
                </a:solidFill>
                <a:latin typeface="Arial"/>
              </a:rPr>
              <a:t>масс-спектрометр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индуктивно связанной плазмой, </a:t>
            </a:r>
            <a:r>
              <a:rPr b="0" lang="ru-RU" sz="2600" spc="-1" strike="noStrike">
                <a:solidFill>
                  <a:srgbClr val="669999"/>
                </a:solidFill>
                <a:latin typeface="Arial"/>
              </a:rPr>
              <a:t>ядерный микрозонд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етод, основанный на регистрации рентгеновского излучения, возбужденного при бомбардировке исследуемого образца пучком ускоренных ионов, обычно протон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9900"/>
                </a:solidFill>
                <a:latin typeface="Arial"/>
              </a:rPr>
              <a:t>Расширяются области применения ФМ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родных объектов и технических материал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вый толчок их развитию даст переход от разработки </a:t>
            </a:r>
            <a:r>
              <a:rPr b="0" lang="en-US" sz="2100" spc="-1" strike="noStrike">
                <a:solidFill>
                  <a:srgbClr val="669900"/>
                </a:solidFill>
                <a:latin typeface="Arial"/>
              </a:rPr>
              <a:t>теоретических основ </a:t>
            </a:r>
            <a:r>
              <a:rPr b="1" i="1" lang="en-US" sz="2100" spc="-1" strike="noStrike">
                <a:solidFill>
                  <a:srgbClr val="669900"/>
                </a:solidFill>
                <a:latin typeface="Arial"/>
              </a:rPr>
              <a:t>отдельных</a:t>
            </a:r>
            <a:r>
              <a:rPr b="0" lang="en-US" sz="2100" spc="-1" strike="noStrike">
                <a:solidFill>
                  <a:srgbClr val="669900"/>
                </a:solidFill>
                <a:latin typeface="Arial"/>
              </a:rPr>
              <a:t> методо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к созданию </a:t>
            </a:r>
            <a:r>
              <a:rPr b="1" i="1" lang="en-US" sz="2100" spc="-1" strike="noStrike">
                <a:solidFill>
                  <a:srgbClr val="669900"/>
                </a:solidFill>
                <a:latin typeface="Arial"/>
              </a:rPr>
              <a:t>общей</a:t>
            </a:r>
            <a:r>
              <a:rPr b="0" lang="en-US" sz="2100" spc="-1" strike="noStrike">
                <a:solidFill>
                  <a:srgbClr val="669900"/>
                </a:solidFill>
                <a:latin typeface="Arial"/>
              </a:rPr>
              <a:t> теории физических методов анализ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Цель таких исследований - выявление физических факторов, обеспечивающих все связи в процессе анализа. Нахождение точной взаимосвязи аналитического сигнала с содержанием определяемого компонента открывает путь к созданию </a:t>
            </a:r>
            <a:r>
              <a:rPr b="0" lang="en-US" sz="2100" spc="-1" strike="noStrike">
                <a:solidFill>
                  <a:srgbClr val="669900"/>
                </a:solidFill>
                <a:latin typeface="Arial"/>
              </a:rPr>
              <a:t>"абсолютных" методов анализ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не требующих образцов сравн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оздание общей теории облегчит сопоставление физических методов анализа между собой, правильный выбор метода для решения конкретных аналитических задач, оптимизацию условий анализ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Источник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xumuk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www.chemport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http://dic.academic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292720" y="2781360"/>
            <a:ext cx="33717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изические методы 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совокупность методов качественного и количественного анализа веществ, основанных на измерении физических характеристик, обусловливающих химическую индивидуальность определяемых компон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изические методы анализ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аны на измерении эффекта, вызванного взаимодействием с веществом излучения - потока квантов или части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лучение играет примерно ту же роль, что играет реактив в химических методах анализа. Измеряемый физический эффект представляет собой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В результате нескольких или множества измерений величины сигнала и их статистической обработки получают аналитический сигнал. Он связан с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концентраци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массо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пределяемых компонен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ассификация ФМ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Исходя из характера используемого излучения, физические методы анализа можно разделить на три группы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методы, использующие первичное излучение, поглощаемое образцом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применяющие первичное излучение, рассеиваемое образцом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использующие вторичное излучение, испускаемое образц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ассификация ФМА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         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С точки зрения практического применения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спектроскопические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ядерно-физические и радиохимические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прочие метод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4032360" cy="26082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5"/>
          <p:cNvSpPr/>
          <p:nvPr/>
        </p:nvSpPr>
        <p:spPr>
          <a:xfrm>
            <a:off x="250920" y="6165720"/>
            <a:ext cx="431640" cy="40500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3020" h="21600">
                <a:moveTo>
                  <a:pt x="0" y="0"/>
                </a:moveTo>
                <a:lnTo>
                  <a:pt x="23020" y="0"/>
                </a:lnTo>
                <a:lnTo>
                  <a:pt x="23020" y="21600"/>
                </a:lnTo>
                <a:lnTo>
                  <a:pt x="0" y="21600"/>
                </a:lnTo>
                <a:close/>
              </a:path>
              <a:path fill="lightenLess" w="23020" h="21600">
                <a:moveTo>
                  <a:pt x="0" y="0"/>
                </a:moveTo>
                <a:lnTo>
                  <a:pt x="23020" y="0"/>
                </a:lnTo>
                <a:lnTo>
                  <a:pt x="21620" y="1400"/>
                </a:lnTo>
                <a:lnTo>
                  <a:pt x="1400" y="1400"/>
                </a:lnTo>
                <a:close/>
              </a:path>
              <a:path fill="darken" w="23020" h="21600">
                <a:moveTo>
                  <a:pt x="23020" y="0"/>
                </a:moveTo>
                <a:lnTo>
                  <a:pt x="23020" y="21600"/>
                </a:lnTo>
                <a:lnTo>
                  <a:pt x="21620" y="20200"/>
                </a:lnTo>
                <a:lnTo>
                  <a:pt x="21620" y="1400"/>
                </a:lnTo>
                <a:close/>
              </a:path>
              <a:path fill="darkenLess" w="23020" h="21600">
                <a:moveTo>
                  <a:pt x="23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20" y="20200"/>
                </a:lnTo>
                <a:close/>
              </a:path>
              <a:path fill="lighten" w="23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20" h="21600">
                <a:moveTo>
                  <a:pt x="4503" y="3794"/>
                </a:moveTo>
                <a:lnTo>
                  <a:pt x="18516" y="10800"/>
                </a:lnTo>
                <a:lnTo>
                  <a:pt x="4503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пектроскопические мет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томно-эмиссионна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атомно-абсорбционна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атомно-флуо-ресцентная спектрометрия и др.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рентгеновская спектроскопия,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 т. ч. рентгено-флуоресцентный метод и рентгеноспектральный микроанализ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масс-спектромет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электронный парамагнитный резонанс и ядерный магнитный резонан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* электронная спектромет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8532720" y="6237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12126"/>
                </a:moveTo>
                <a:lnTo>
                  <a:pt x="17806" y="5119"/>
                </a:lnTo>
                <a:lnTo>
                  <a:pt x="17806" y="1913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Ядерно-физические и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 радиохимические методы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диоактивационный анализ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дерная гамма-резонансная, или мёссбауэровская спектроскоп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отопного разбавления мет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5"/>
          <p:cNvSpPr/>
          <p:nvPr/>
        </p:nvSpPr>
        <p:spPr>
          <a:xfrm>
            <a:off x="8532720" y="6237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12126"/>
                </a:moveTo>
                <a:lnTo>
                  <a:pt x="17806" y="5119"/>
                </a:lnTo>
                <a:lnTo>
                  <a:pt x="17806" y="1913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рочие мет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нтгеновская дифрактометрия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2324160" cy="3097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3097440" cy="309744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8532720" y="6237360"/>
            <a:ext cx="360360" cy="404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04640"/>
              <a:gd name="textAreaBottom" fmla="*/ 381600 h 404640"/>
            </a:gdLst>
            <a:ahLst/>
            <a:rect l="textAreaLeft" t="textAreaTop" r="textAreaRight" b="textAreaBottom"/>
            <a:pathLst>
              <a:path w="21600" h="24251">
                <a:moveTo>
                  <a:pt x="0" y="0"/>
                </a:moveTo>
                <a:lnTo>
                  <a:pt x="21600" y="0"/>
                </a:lnTo>
                <a:lnTo>
                  <a:pt x="21600" y="24251"/>
                </a:lnTo>
                <a:lnTo>
                  <a:pt x="0" y="24251"/>
                </a:lnTo>
                <a:close/>
              </a:path>
              <a:path fill="lightenLess" w="21600" h="24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51">
                <a:moveTo>
                  <a:pt x="21600" y="0"/>
                </a:moveTo>
                <a:lnTo>
                  <a:pt x="21600" y="24251"/>
                </a:lnTo>
                <a:lnTo>
                  <a:pt x="20200" y="22851"/>
                </a:lnTo>
                <a:lnTo>
                  <a:pt x="20200" y="1400"/>
                </a:lnTo>
                <a:close/>
              </a:path>
              <a:path fill="darkenLess" w="21600" h="24251">
                <a:moveTo>
                  <a:pt x="21600" y="24251"/>
                </a:moveTo>
                <a:lnTo>
                  <a:pt x="0" y="24251"/>
                </a:lnTo>
                <a:lnTo>
                  <a:pt x="1400" y="22851"/>
                </a:lnTo>
                <a:lnTo>
                  <a:pt x="20200" y="22851"/>
                </a:lnTo>
                <a:close/>
              </a:path>
              <a:path fill="lighten" w="21600" h="24251">
                <a:moveTo>
                  <a:pt x="0" y="24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51"/>
                </a:lnTo>
                <a:close/>
              </a:path>
              <a:path fill="darken" w="21600" h="24251">
                <a:moveTo>
                  <a:pt x="3794" y="12126"/>
                </a:moveTo>
                <a:lnTo>
                  <a:pt x="17806" y="5119"/>
                </a:lnTo>
                <a:lnTo>
                  <a:pt x="17806" y="1913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565960" cy="61930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324000" y="2276640"/>
            <a:ext cx="26636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Лаборато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физическ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метод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анали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3:44:18Z</dcterms:created>
  <dc:creator>Admin</dc:creator>
  <dc:description/>
  <dc:language>en-US</dc:language>
  <cp:lastModifiedBy>Пользователь</cp:lastModifiedBy>
  <dcterms:modified xsi:type="dcterms:W3CDTF">2012-06-28T08:10:43Z</dcterms:modified>
  <cp:revision>3</cp:revision>
  <dc:subject/>
  <dc:title>Слайд 1</dc:title>
</cp:coreProperties>
</file>